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9696-5B22-4C04-9B33-4042CEC6C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85A5-734D-4FA3-9F55-8FE8655A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E104-FB10-4E0D-8B21-E9973C110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5516-AF06-4B52-8100-AD82040C6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BAC9-C840-492E-BD9E-91EF1D43A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BE416-EF16-4F0E-8DB7-FDEAD442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1A01E-31D3-45FD-AE14-7ECB10C81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347F-187D-4321-957A-00A8303D1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7A6FE-24C7-44A0-87A1-EC5FDA1F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7F9A-0B90-40BA-BCB3-9B0D516E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97D71-7BFC-4969-B4F3-F9AAC411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8BB2-156C-40FB-99FF-38B798F1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1BFBC-DFCE-4DDD-89C9-8E486569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64B4-8D4C-4F9B-A26F-911F7907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A0D0E-4085-4757-AA55-C46091019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D1E6-A2F6-4612-AFFB-878172D0F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76D1-7597-4574-9956-6090D6897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90B5D-0E4B-4E77-AE77-8A72B5C4E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4054D-1F01-4EC9-85E7-C8736104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8BD25-B642-4552-A240-85D9C1B4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4B64A-6EA2-4E82-BBD3-75E6679BC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B1352-586C-41EE-8EF4-59BF3801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660B-D287-4454-923B-7E5912B7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82C29-3441-4851-B34D-0CE75548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33A5C-CEFC-4E43-9787-FB05B8FB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560F0-A397-45A7-96C5-1651B0681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14D70-283C-4C8B-AE30-50C24A81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15CA1-DA96-46FE-BBEE-FC6363DC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DC73F-520C-4B46-9542-4491463F6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79E58-22D9-45D2-AEFF-C3A187F89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AAFF2E-CBEA-4B0F-A046-C8A86CC29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61BAE-9C61-49D1-9F95-40A47625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3733C-A6BC-4D0A-BAC1-88C358A6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E45D-66F0-497D-B936-2124B65B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BE3D9-E855-4B7A-BC1A-5B510F75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4114C-18B7-4A08-B500-79DCB2CB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F03B8-BB11-48A1-8512-4747147A9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6BDBA-EC5B-4EB7-A6E4-804EE7D0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89CDA-C24A-4EEC-9F6A-F4087E22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6F44A-6FF5-4E4F-B8E1-B1891C462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33655-E052-438E-BB2E-D551369F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F46AF-2B72-4DF2-9DBA-B13872175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A0844-B7FA-4C1C-88AC-AD1297DCD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D6B04-7E24-41E0-BE9F-118963A7B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0365-2EEE-4A3D-A7B9-BD65BF74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9FB9B9-C3D3-40A4-89E3-424F52C6A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6BCBB-B0FA-4DC8-BAC3-A126FF5C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C87CE-ECE9-422A-A201-7BEAB199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CC0DB-2B7A-408A-AF67-FA383B1A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700C5-7270-4921-8F67-E26CF846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F4016-5412-435E-8FA2-F0C75AB3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18AB9-A607-4010-AB77-BAF0A886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B8265-C718-42C1-B819-7E248B74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927FB-5C69-4B47-9C06-2D17C350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36220-AB74-4169-AC75-B4F40F2CE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FC56-4334-4226-8689-F46ACBA9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5499A-576E-440C-89C1-CB0726F21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94EC5B-D89E-4B56-AE11-A616C4D92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641F8-AF6B-4305-8CE3-17204332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8047E1-0616-40CB-8F6C-4AF49919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A42A3-3369-4614-A44E-21630E5A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13A8F-1DA2-4297-A7D1-E9DF7C3FB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35B1E-17DF-4B29-9B5E-74065AE3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3049E-3621-4B3B-AA03-35ED38E07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AC67D-649D-4B68-A5CE-EE2002FD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1F13A-EDFE-4C0E-BD62-81B637728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83FA-6B86-4784-9D3F-D7898A81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871C9-624E-4364-BD49-E9392E99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C9A96-9561-47B9-81A7-10E5C76CE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18F82-9DD8-4F2F-8527-DEEC1D597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8E10C-BE30-410B-9F29-6E2D6064B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3E09D-3684-4AB6-9973-C2574A73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41D36-B579-43FF-9E9D-F70D602E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1BFAD-5D0E-42F6-92D0-211B32BF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1B09B-46BA-4906-8F29-F5267669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E40A1-F3F9-491F-83FE-24F399D7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2BD4E-CF0C-4286-9E23-50099413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D47B-49D4-4407-AC9F-33564993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33E79-E14D-4ED5-AD6E-3396E98C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BA61C-B765-4B79-B8D7-A065728B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903AD-6EFC-4C84-8242-064356FC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CF0DC-BAC0-4754-88E0-DF72804F0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BC362-5F66-45C5-B35C-E6EC93F5E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F744B-78DC-4FA1-B8D9-5633B5702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0AD47-550F-4799-BFBE-3AB43973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46ED6-3BCF-4C51-8A47-24712119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8FD8A-985B-417A-AD31-F257B72D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617A1-7ECC-4984-99A6-0D685BECA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87DD-C4C7-499D-AA85-A37681D6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E400E-C478-4516-A6A0-F2C6EFCF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85B42-A213-4DC0-9CDF-6C9C648AD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8D71B5-9BE9-4692-869E-6191EEE1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47C97-6437-40A7-BB3A-89B830FA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38EB5-E853-45FD-95AD-976287C2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41E4B-38F5-4426-A70D-B7D1E7462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432BC-90DD-4A1C-862F-C7954A56F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B98E-8211-42BC-853C-6B997896511E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F4FC-68CB-458E-AF50-888C043E8EEC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29BB-7A14-4B0C-B4A4-92BE62FF028A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71A6-5EB0-4739-8194-C451C2170712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987C-3EDF-474C-8E27-7CEAF13C3A94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B09B-3030-4CB8-A150-8BD6AAEA2992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4B21-3F9A-4A34-9380-EA98F9D76316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CCED-A912-4E19-B6A3-8CBC8E4AB2D7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-6480" y="1066680"/>
            <a:ext cx="9217080" cy="2114640"/>
          </a:xfrm>
          <a:prstGeom prst="rect">
            <a:avLst/>
          </a:prstGeom>
          <a:ln w="0">
            <a:noFill/>
          </a:ln>
        </p:spPr>
      </p:pic>
      <p:sp>
        <p:nvSpPr>
          <p:cNvPr id="371" name="Подзаголовок 2"/>
          <p:cNvSpPr/>
          <p:nvPr/>
        </p:nvSpPr>
        <p:spPr>
          <a:xfrm>
            <a:off x="4929120" y="3286080"/>
            <a:ext cx="42148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Карпова Оксана Леонид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Быкова Лариса Вале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Чепкова Юлия Ю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Шаманаева Любовь Хали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одзаголовок 2"/>
          <p:cNvSpPr/>
          <p:nvPr/>
        </p:nvSpPr>
        <p:spPr>
          <a:xfrm>
            <a:off x="2357280" y="6286680"/>
            <a:ext cx="42148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25 ноября 202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5"/>
          <p:cNvSpPr/>
          <p:nvPr/>
        </p:nvSpPr>
        <p:spPr>
          <a:xfrm>
            <a:off x="928800" y="142920"/>
            <a:ext cx="757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ональная научно-практическая конферен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Эффективные механизмы повышения образовательных результатов обучающихс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6"/>
          <p:cNvSpPr/>
          <p:nvPr/>
        </p:nvSpPr>
        <p:spPr>
          <a:xfrm>
            <a:off x="5000760" y="4714920"/>
            <a:ext cx="3214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ОУ «Школа №2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Губаха Пермский к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499680"/>
            <a:ext cx="8229600" cy="55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 сороконожки 40 ножек. К зиме она прикупила 6 пар сапожек. Все равно 10 ножек остались без сапожек. Сколько у сороконожки было пар старых сапожек до того, как она купила новые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рифметический способ решения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 • 2 = 12 ног в новых сапожк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0 — 12 = 28 ног босые и в старых сапог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8 — 10 = 18 ног в старых сапожк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8 : 2 = 9 пар старых сапог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0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3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5 пар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Левая фигурная скобка 6"/>
          <p:cNvSpPr/>
          <p:nvPr/>
        </p:nvSpPr>
        <p:spPr>
          <a:xfrm rot="5400000">
            <a:off x="3821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5 пар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Левая фигурная скобка 6"/>
          <p:cNvSpPr/>
          <p:nvPr/>
        </p:nvSpPr>
        <p:spPr>
          <a:xfrm rot="5400000">
            <a:off x="3821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Левая фигурная скобка 7"/>
          <p:cNvSpPr/>
          <p:nvPr/>
        </p:nvSpPr>
        <p:spPr>
          <a:xfrm rot="5400000">
            <a:off x="6643440" y="1928520"/>
            <a:ext cx="500040" cy="335772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3357720"/>
              <a:gd name="textAreaBottom" fmla="*/ 3344760 h 335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5 пар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20-(6+5)=9 (пар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Ответ: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9 пар старых сапожек было у сороконожк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до того, как она купила новы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5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Левая фигурная скобка 6"/>
          <p:cNvSpPr/>
          <p:nvPr/>
        </p:nvSpPr>
        <p:spPr>
          <a:xfrm rot="5400000">
            <a:off x="3821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Левая фигурная скобка 7"/>
          <p:cNvSpPr/>
          <p:nvPr/>
        </p:nvSpPr>
        <p:spPr>
          <a:xfrm rot="5400000">
            <a:off x="6643440" y="1928520"/>
            <a:ext cx="500040" cy="335772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3357720"/>
              <a:gd name="textAreaBottom" fmla="*/ 3344760 h 335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ограмма краткосрочного курс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о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нтеллектуальному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 направле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«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ешение нестандартных задач по математике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»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 класс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10 часов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sp>
        <p:nvSpPr>
          <p:cNvPr id="431" name="TextBox 5"/>
          <p:cNvSpPr/>
          <p:nvPr/>
        </p:nvSpPr>
        <p:spPr>
          <a:xfrm>
            <a:off x="428760" y="11430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sp>
        <p:nvSpPr>
          <p:cNvPr id="433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5" name=""/>
          <p:cNvGraphicFramePr/>
          <p:nvPr/>
        </p:nvGraphicFramePr>
        <p:xfrm>
          <a:off x="285840" y="2000160"/>
          <a:ext cx="8429400" cy="38260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36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8" name=""/>
          <p:cNvGraphicFramePr/>
          <p:nvPr/>
        </p:nvGraphicFramePr>
        <p:xfrm>
          <a:off x="285840" y="2000160"/>
          <a:ext cx="8429400" cy="38260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39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1" name=""/>
          <p:cNvGraphicFramePr/>
          <p:nvPr/>
        </p:nvGraphicFramePr>
        <p:xfrm>
          <a:off x="285840" y="2000160"/>
          <a:ext cx="8429400" cy="38260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42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4" name=""/>
          <p:cNvGraphicFramePr/>
          <p:nvPr/>
        </p:nvGraphicFramePr>
        <p:xfrm>
          <a:off x="285840" y="2000160"/>
          <a:ext cx="8429400" cy="386424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45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7" name=""/>
          <p:cNvGraphicFramePr/>
          <p:nvPr/>
        </p:nvGraphicFramePr>
        <p:xfrm>
          <a:off x="285840" y="2000160"/>
          <a:ext cx="8429400" cy="386424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48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0" name=""/>
          <p:cNvGraphicFramePr/>
          <p:nvPr/>
        </p:nvGraphicFramePr>
        <p:xfrm>
          <a:off x="285840" y="2000160"/>
          <a:ext cx="8429400" cy="390060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51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3" name=""/>
          <p:cNvGraphicFramePr/>
          <p:nvPr/>
        </p:nvGraphicFramePr>
        <p:xfrm>
          <a:off x="285840" y="2000160"/>
          <a:ext cx="8429400" cy="390060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54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6" name=""/>
          <p:cNvGraphicFramePr/>
          <p:nvPr/>
        </p:nvGraphicFramePr>
        <p:xfrm>
          <a:off x="285840" y="2000160"/>
          <a:ext cx="8429400" cy="393876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57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285480" y="1643040"/>
            <a:ext cx="8715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Задачи курса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обучающи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формирование общеинтеллектуальных умений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углубление и расширение знаний учащихся по математике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создание условий для повышения эффективности подготовки выпускников начальной школы к ВПР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развивающи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ормирование и развитие логического мышления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развитие внимание, памяти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воспитательны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ормирование положительной мотивации к учению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ормирование умение работать в группе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Заголовок 2" descr=""/>
          <p:cNvPicPr/>
          <p:nvPr/>
        </p:nvPicPr>
        <p:blipFill>
          <a:blip r:embed="rId1"/>
          <a:stretch/>
        </p:blipFill>
        <p:spPr>
          <a:xfrm>
            <a:off x="298440" y="85680"/>
            <a:ext cx="839484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"/>
          <p:cNvGraphicFramePr/>
          <p:nvPr/>
        </p:nvGraphicFramePr>
        <p:xfrm>
          <a:off x="285840" y="2000160"/>
          <a:ext cx="8429400" cy="393876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0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2" name=""/>
          <p:cNvGraphicFramePr/>
          <p:nvPr/>
        </p:nvGraphicFramePr>
        <p:xfrm>
          <a:off x="285840" y="2000160"/>
          <a:ext cx="8429400" cy="397512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3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5" name=""/>
          <p:cNvGraphicFramePr/>
          <p:nvPr/>
        </p:nvGraphicFramePr>
        <p:xfrm>
          <a:off x="285840" y="2000160"/>
          <a:ext cx="8429400" cy="397512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6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8" name=""/>
          <p:cNvGraphicFramePr/>
          <p:nvPr/>
        </p:nvGraphicFramePr>
        <p:xfrm>
          <a:off x="285840" y="2000160"/>
          <a:ext cx="8429400" cy="40132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=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9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1" name=""/>
          <p:cNvGraphicFramePr/>
          <p:nvPr/>
        </p:nvGraphicFramePr>
        <p:xfrm>
          <a:off x="285840" y="2000160"/>
          <a:ext cx="8429400" cy="40132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=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72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4"/>
          <p:cNvSpPr/>
          <p:nvPr/>
        </p:nvSpPr>
        <p:spPr>
          <a:xfrm>
            <a:off x="3571920" y="6000840"/>
            <a:ext cx="557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 пар старых сапожек было у сороконо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того, как она купила но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Полилиния 45"/>
          <p:cNvSpPr/>
          <p:nvPr/>
        </p:nvSpPr>
        <p:spPr>
          <a:xfrm>
            <a:off x="1297080" y="1859040"/>
            <a:ext cx="6159240" cy="3836880"/>
          </a:xfrm>
          <a:prstGeom prst="pie">
            <a:avLst/>
          </a:prstGeom>
          <a:solidFill>
            <a:srgbClr val="ffffff"/>
          </a:solidFill>
          <a:ln w="55080">
            <a:solidFill>
              <a:srgbClr val="1fae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76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46"/>
          <p:cNvSpPr/>
          <p:nvPr/>
        </p:nvSpPr>
        <p:spPr>
          <a:xfrm>
            <a:off x="5143680" y="12142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сороконожки 40 нож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Прямая со стрелкой 48"/>
          <p:cNvCxnSpPr/>
          <p:nvPr/>
        </p:nvCxnSpPr>
        <p:spPr>
          <a:xfrm flipH="1">
            <a:off x="5928840" y="1714320"/>
            <a:ext cx="858240" cy="857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19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58"/>
          <p:cNvSpPr/>
          <p:nvPr/>
        </p:nvSpPr>
        <p:spPr>
          <a:xfrm>
            <a:off x="357120" y="1357200"/>
            <a:ext cx="59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зиме она прикупила 6 пар сапож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68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50"/>
          <p:cNvSpPr/>
          <p:nvPr/>
        </p:nvSpPr>
        <p:spPr>
          <a:xfrm>
            <a:off x="357120" y="128592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5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619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6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67" name="Группа 68"/>
          <p:cNvGrpSpPr/>
          <p:nvPr/>
        </p:nvGrpSpPr>
        <p:grpSpPr>
          <a:xfrm>
            <a:off x="4357800" y="1214280"/>
            <a:ext cx="4786200" cy="1500840"/>
            <a:chOff x="4357800" y="1214280"/>
            <a:chExt cx="4786200" cy="1500840"/>
          </a:xfrm>
        </p:grpSpPr>
        <p:sp>
          <p:nvSpPr>
            <p:cNvPr id="668" name="TextBox 55"/>
            <p:cNvSpPr/>
            <p:nvPr/>
          </p:nvSpPr>
          <p:spPr>
            <a:xfrm>
              <a:off x="4357800" y="1214280"/>
              <a:ext cx="47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0 ножек остались без сапожек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9" name="Прямая со стрелкой 56"/>
            <p:cNvCxnSpPr/>
            <p:nvPr/>
          </p:nvCxnSpPr>
          <p:spPr>
            <a:xfrm flipH="1">
              <a:off x="6572160" y="1785960"/>
              <a:ext cx="643320" cy="9295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674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1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2" name="TextBox 55"/>
          <p:cNvSpPr/>
          <p:nvPr/>
        </p:nvSpPr>
        <p:spPr>
          <a:xfrm>
            <a:off x="5929200" y="114300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3" name="Прямая со стрелкой 56"/>
          <p:cNvCxnSpPr>
            <a:stCxn id="722" idx="2"/>
          </p:cNvCxnSpPr>
          <p:nvPr/>
        </p:nvCxnSpPr>
        <p:spPr>
          <a:xfrm flipH="1">
            <a:off x="6571440" y="1604880"/>
            <a:ext cx="96588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785520"/>
            <a:ext cx="822960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>
                <a:solidFill>
                  <a:srgbClr val="000000"/>
                </a:solidFill>
                <a:latin typeface="Lucida Sans Unicode"/>
              </a:rPr>
              <a:t>Методы обучения и формы занятий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словесные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наглядные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практические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исследовательски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едущим методом является исследовательский. Организаторами исследований могут, кроме учителя, становиться дет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728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5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6" name="TextBox 55"/>
          <p:cNvSpPr/>
          <p:nvPr/>
        </p:nvSpPr>
        <p:spPr>
          <a:xfrm>
            <a:off x="5929200" y="114300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7" name="Прямая со стрелкой 56"/>
          <p:cNvCxnSpPr>
            <a:stCxn id="776" idx="2"/>
          </p:cNvCxnSpPr>
          <p:nvPr/>
        </p:nvCxnSpPr>
        <p:spPr>
          <a:xfrm flipH="1">
            <a:off x="6571440" y="1604880"/>
            <a:ext cx="96588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8" name="TextBox 59"/>
          <p:cNvSpPr/>
          <p:nvPr/>
        </p:nvSpPr>
        <p:spPr>
          <a:xfrm>
            <a:off x="3357720" y="5929200"/>
            <a:ext cx="56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вшиеся ножки в старых сапож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9" name="Прямая со стрелкой 60"/>
          <p:cNvCxnSpPr/>
          <p:nvPr/>
        </p:nvCxnSpPr>
        <p:spPr>
          <a:xfrm flipH="1" flipV="1">
            <a:off x="5714640" y="5109480"/>
            <a:ext cx="572400" cy="819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784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1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TextBox 55"/>
          <p:cNvSpPr/>
          <p:nvPr/>
        </p:nvSpPr>
        <p:spPr>
          <a:xfrm>
            <a:off x="5929200" y="11430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3" name="Прямая со стрелкой 56"/>
          <p:cNvCxnSpPr>
            <a:stCxn id="832" idx="2"/>
          </p:cNvCxnSpPr>
          <p:nvPr/>
        </p:nvCxnSpPr>
        <p:spPr>
          <a:xfrm flipH="1">
            <a:off x="6571440" y="1604880"/>
            <a:ext cx="78660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4" name="TextBox 59"/>
          <p:cNvSpPr/>
          <p:nvPr/>
        </p:nvSpPr>
        <p:spPr>
          <a:xfrm>
            <a:off x="1500120" y="585792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лько у сороконожки был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арых сапоже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5" name="Прямая со стрелкой 60"/>
          <p:cNvCxnSpPr/>
          <p:nvPr/>
        </p:nvCxnSpPr>
        <p:spPr>
          <a:xfrm flipH="1" flipV="1">
            <a:off x="5714640" y="5109480"/>
            <a:ext cx="572400" cy="819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6" name="Прямая соединительная линия 62"/>
          <p:cNvSpPr/>
          <p:nvPr/>
        </p:nvSpPr>
        <p:spPr>
          <a:xfrm>
            <a:off x="3291840" y="4654440"/>
            <a:ext cx="158760" cy="4892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Прямая соединительная линия 64"/>
          <p:cNvSpPr/>
          <p:nvPr/>
        </p:nvSpPr>
        <p:spPr>
          <a:xfrm>
            <a:off x="3897360" y="4440240"/>
            <a:ext cx="109440" cy="620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Прямая соединительная линия 66"/>
          <p:cNvSpPr/>
          <p:nvPr/>
        </p:nvSpPr>
        <p:spPr>
          <a:xfrm>
            <a:off x="3786120" y="3357720"/>
            <a:ext cx="325440" cy="296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Прямая соединительная линия 68"/>
          <p:cNvSpPr/>
          <p:nvPr/>
        </p:nvSpPr>
        <p:spPr>
          <a:xfrm>
            <a:off x="4291920" y="3132000"/>
            <a:ext cx="42228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Прямая соединительная линия 70"/>
          <p:cNvSpPr/>
          <p:nvPr/>
        </p:nvSpPr>
        <p:spPr>
          <a:xfrm flipH="1">
            <a:off x="4506480" y="4203720"/>
            <a:ext cx="104760" cy="6652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Прямая соединительная линия 73"/>
          <p:cNvSpPr/>
          <p:nvPr/>
        </p:nvSpPr>
        <p:spPr>
          <a:xfrm flipV="1">
            <a:off x="5149800" y="3571920"/>
            <a:ext cx="493920" cy="417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Прямая соединительная линия 75"/>
          <p:cNvSpPr/>
          <p:nvPr/>
        </p:nvSpPr>
        <p:spPr>
          <a:xfrm flipH="1">
            <a:off x="5214960" y="4560840"/>
            <a:ext cx="6480" cy="6541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Прямая соединительная линия 77"/>
          <p:cNvSpPr/>
          <p:nvPr/>
        </p:nvSpPr>
        <p:spPr>
          <a:xfrm>
            <a:off x="5863680" y="4346640"/>
            <a:ext cx="136440" cy="5112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Прямая соединительная линия 79"/>
          <p:cNvSpPr/>
          <p:nvPr/>
        </p:nvSpPr>
        <p:spPr>
          <a:xfrm>
            <a:off x="6183360" y="3703680"/>
            <a:ext cx="466560" cy="307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849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6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7" name="TextBox 55"/>
          <p:cNvSpPr/>
          <p:nvPr/>
        </p:nvSpPr>
        <p:spPr>
          <a:xfrm>
            <a:off x="5929200" y="11430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8" name="Прямая со стрелкой 56"/>
          <p:cNvCxnSpPr>
            <a:stCxn id="897" idx="2"/>
          </p:cNvCxnSpPr>
          <p:nvPr/>
        </p:nvCxnSpPr>
        <p:spPr>
          <a:xfrm flipH="1">
            <a:off x="6571440" y="1604880"/>
            <a:ext cx="78660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9" name="TextBox 59"/>
          <p:cNvSpPr/>
          <p:nvPr/>
        </p:nvSpPr>
        <p:spPr>
          <a:xfrm>
            <a:off x="5143680" y="57862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 пар старых сапо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0" name="Прямая со стрелкой 60"/>
          <p:cNvCxnSpPr/>
          <p:nvPr/>
        </p:nvCxnSpPr>
        <p:spPr>
          <a:xfrm flipH="1" flipV="1">
            <a:off x="5714640" y="5109480"/>
            <a:ext cx="572400" cy="819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Прямая соединительная линия 62"/>
          <p:cNvSpPr/>
          <p:nvPr/>
        </p:nvSpPr>
        <p:spPr>
          <a:xfrm>
            <a:off x="3291840" y="4654440"/>
            <a:ext cx="158760" cy="4892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Прямая соединительная линия 64"/>
          <p:cNvSpPr/>
          <p:nvPr/>
        </p:nvSpPr>
        <p:spPr>
          <a:xfrm>
            <a:off x="3897360" y="4440240"/>
            <a:ext cx="109440" cy="620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Прямая соединительная линия 66"/>
          <p:cNvSpPr/>
          <p:nvPr/>
        </p:nvSpPr>
        <p:spPr>
          <a:xfrm>
            <a:off x="3786120" y="3357720"/>
            <a:ext cx="325440" cy="296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Прямая соединительная линия 68"/>
          <p:cNvSpPr/>
          <p:nvPr/>
        </p:nvSpPr>
        <p:spPr>
          <a:xfrm>
            <a:off x="4291920" y="3132000"/>
            <a:ext cx="42228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Прямая соединительная линия 70"/>
          <p:cNvSpPr/>
          <p:nvPr/>
        </p:nvSpPr>
        <p:spPr>
          <a:xfrm flipH="1">
            <a:off x="4506480" y="4203720"/>
            <a:ext cx="104760" cy="6652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Прямая соединительная линия 73"/>
          <p:cNvSpPr/>
          <p:nvPr/>
        </p:nvSpPr>
        <p:spPr>
          <a:xfrm flipV="1">
            <a:off x="5149800" y="3571920"/>
            <a:ext cx="493920" cy="417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Прямая соединительная линия 75"/>
          <p:cNvSpPr/>
          <p:nvPr/>
        </p:nvSpPr>
        <p:spPr>
          <a:xfrm flipH="1">
            <a:off x="5214960" y="4560840"/>
            <a:ext cx="6480" cy="6541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Прямая соединительная линия 77"/>
          <p:cNvSpPr/>
          <p:nvPr/>
        </p:nvSpPr>
        <p:spPr>
          <a:xfrm>
            <a:off x="5863680" y="4346640"/>
            <a:ext cx="136440" cy="5112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Прямая соединительная линия 79"/>
          <p:cNvSpPr/>
          <p:nvPr/>
        </p:nvSpPr>
        <p:spPr>
          <a:xfrm>
            <a:off x="6183360" y="3703680"/>
            <a:ext cx="466560" cy="307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Прямоугольник 67"/>
          <p:cNvSpPr/>
          <p:nvPr/>
        </p:nvSpPr>
        <p:spPr>
          <a:xfrm>
            <a:off x="3714840" y="621180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 пар старых сапожек было у сороконо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того, как она купила но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1" name=""/>
          <p:cNvGraphicFramePr/>
          <p:nvPr/>
        </p:nvGraphicFramePr>
        <p:xfrm>
          <a:off x="428760" y="1428840"/>
          <a:ext cx="8429400" cy="3794040"/>
        </p:xfrm>
        <a:graphic>
          <a:graphicData uri="http://schemas.openxmlformats.org/drawingml/2006/table">
            <a:tbl>
              <a:tblPr/>
              <a:tblGrid>
                <a:gridCol w="2681280"/>
                <a:gridCol w="676080"/>
                <a:gridCol w="1214640"/>
                <a:gridCol w="714240"/>
                <a:gridCol w="1047600"/>
                <a:gridCol w="1047960"/>
                <a:gridCol w="1047600"/>
              </a:tblGrid>
              <a:tr h="579240"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0. 5 класс (по программе 4 класс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имальный первичный балл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09.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ы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 бал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я выбор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3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96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,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,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мский кр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5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,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од Губа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,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36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ОУ " Школа №2 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9,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,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3" name=""/>
          <p:cNvGraphicFramePr/>
          <p:nvPr/>
        </p:nvGraphicFramePr>
        <p:xfrm>
          <a:off x="428760" y="1428840"/>
          <a:ext cx="8429400" cy="3794040"/>
        </p:xfrm>
        <a:graphic>
          <a:graphicData uri="http://schemas.openxmlformats.org/drawingml/2006/table">
            <a:tbl>
              <a:tblPr/>
              <a:tblGrid>
                <a:gridCol w="2681280"/>
                <a:gridCol w="676080"/>
                <a:gridCol w="1214640"/>
                <a:gridCol w="714240"/>
                <a:gridCol w="1047600"/>
                <a:gridCol w="1047960"/>
                <a:gridCol w="1047600"/>
              </a:tblGrid>
              <a:tr h="579240"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1. 4 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имальный первичный балл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3.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ы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 бал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я выбор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4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282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,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мский кр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2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,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од Губа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36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ОУ " Школа №2 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1,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90,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8,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4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6" name=""/>
          <p:cNvGraphicFramePr/>
          <p:nvPr/>
        </p:nvGraphicFramePr>
        <p:xfrm>
          <a:off x="457200" y="1481040"/>
          <a:ext cx="8258040" cy="3233880"/>
        </p:xfrm>
        <a:graphic>
          <a:graphicData uri="http://schemas.openxmlformats.org/drawingml/2006/table">
            <a:tbl>
              <a:tblPr/>
              <a:tblGrid>
                <a:gridCol w="2328840"/>
                <a:gridCol w="1976400"/>
                <a:gridCol w="1976400"/>
                <a:gridCol w="1976400"/>
              </a:tblGrid>
              <a:tr h="14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0, 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9,7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,4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8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1,6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90,8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8,5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Lucida Sans Unicode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6840" y="1480680"/>
            <a:ext cx="8543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Личност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Будут сформированы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учебно­познавательный интерес к новому учебному материалу и способам решения новой задачи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риентация на понимание причин успеха в учебной деятельности, в том числе на самоанализ и самоконтроль результата, на анализ соответствия результатов требованиям конкретной задачи, на понимание оценок учителей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пособность к оценке своей учебной деятельност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6840" y="148104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Регулятив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чащиеся научатся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ринимать и сохранять учебную задачу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учитывать выделенные учителем ориентиры действия в новом учебном материале в сотрудничестве с учителем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ланировать свои действия в соответствии с поставленной задачей и условиями её реализации, в том числе во внутреннем плане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существлять итоговый и пошаговый контроль по результату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6840" y="148104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Познаватель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чащиеся научатся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риентироваться на разнообразие способов решения задач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сновам смыслового восприятия текстов, выделять существенную информацию из сообщений разных видов (в первую очередь текстов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существлять анализ объектов с выделением существенных и несущественных признаков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ладеть рядом общих приёмов решения задач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6840" y="148104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Коммуникатив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чащиеся научатся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формулировать собственное мнение и позицию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задавать вопросы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"/>
          <p:cNvGraphicFramePr/>
          <p:nvPr/>
        </p:nvGraphicFramePr>
        <p:xfrm>
          <a:off x="457200" y="1719360"/>
          <a:ext cx="8258040" cy="3520800"/>
        </p:xfrm>
        <a:graphic>
          <a:graphicData uri="http://schemas.openxmlformats.org/drawingml/2006/table">
            <a:tbl>
              <a:tblPr/>
              <a:tblGrid>
                <a:gridCol w="473040"/>
                <a:gridCol w="6927840"/>
                <a:gridCol w="85716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аименование разде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ол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о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7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зентация курса. Решение простейших зада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7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актический метод решения задач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7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афический метод решения задач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од упорядоченного переб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хематичный мет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бличный спосо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од граф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ое занятие. Рефлек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pic>
        <p:nvPicPr>
          <p:cNvPr id="390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6374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7T09:06:39Z</dcterms:created>
  <dc:creator>Buch-02</dc:creator>
  <dc:description/>
  <dc:language>en-US</dc:language>
  <cp:lastModifiedBy>Buch-02</cp:lastModifiedBy>
  <dcterms:modified xsi:type="dcterms:W3CDTF">2021-11-18T10:53:26Z</dcterms:modified>
  <cp:revision>46</cp:revision>
  <dc:subject/>
  <dc:title>Тема выступления</dc:title>
</cp:coreProperties>
</file>